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10515600" cy="73152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7ED2-809F-4D83-BCD6-77A5E7CB6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9331-874B-4F49-BBD6-BA7236E9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E65C-74A9-4A2F-9E59-D13662C2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5FE3-C18A-484A-A965-963A621BC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B4F7-5CF0-44E0-952C-3CBF445CE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022B-94D6-4E59-B8D8-40870262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D6F7-413A-4AA6-8A50-71E17CC7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5794-2A83-4631-B66F-CAFA537F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 2 (continued on the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6939-9854-442C-AA5B-BEC6CDE5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A010-00F4-461B-96F7-9ACDE666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D35A-735E-4A5A-A8B4-F22524A5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D56B-8231-460F-BDEF-94A7D5E1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6B3C-7187-485D-BD15-53315C81F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13F0-786D-475E-9984-5B26CE90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B923-596A-4D22-B501-16555430C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3C2C-ADF8-4C2C-9237-60FBE675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1CA6-ED55-4DC2-AE98-1B8ED883E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A84-BE07-4817-8495-3B9F3039E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6B51-6DAB-408E-B8E9-DF150A714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5BD4-1EB1-4693-8D5A-9901CD5D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FE45-1193-4802-BD61-6116CFEE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A7A6-BA5C-4728-AB77-05D3657D1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0AE4-A671-4A89-BCB7-0169BF52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9D5-2B88-4D15-9177-E0624C028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FEED-6802-4CA6-8DEE-90CEC2F4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B5AB-4A26-40F5-AB18-39006337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3760" y="696960"/>
            <a:ext cx="5010480" cy="3486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72528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925320" y="17114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2560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72528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925320" y="3927240"/>
            <a:ext cx="30470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25600" y="291600"/>
            <a:ext cx="946368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74800" y="39272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25600" y="291600"/>
            <a:ext cx="946368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256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74800" y="1711440"/>
            <a:ext cx="46180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600" y="3927240"/>
            <a:ext cx="946368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" Target="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esources"/>
          <p:cNvPicPr/>
          <p:nvPr/>
        </p:nvPicPr>
        <p:blipFill>
          <a:blip r:embed="rId3"/>
          <a:stretch/>
        </p:blipFill>
        <p:spPr>
          <a:xfrm>
            <a:off x="4384800" y="6765840"/>
            <a:ext cx="1692000" cy="487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me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387600" y="6762600"/>
            <a:ext cx="998640" cy="493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next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previous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resources"/>
          <p:cNvPicPr/>
          <p:nvPr/>
        </p:nvPicPr>
        <p:blipFill>
          <a:blip r:embed="rId3"/>
          <a:stretch/>
        </p:blipFill>
        <p:spPr>
          <a:xfrm>
            <a:off x="4384800" y="6759720"/>
            <a:ext cx="1692000" cy="4870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630840" y="6753240"/>
            <a:ext cx="484200" cy="501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revious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6046920" y="6757920"/>
            <a:ext cx="48420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Vocab Folder"/>
          <p:cNvPicPr/>
          <p:nvPr/>
        </p:nvPicPr>
        <p:blipFill>
          <a:blip r:embed="rId6"/>
          <a:stretch/>
        </p:blipFill>
        <p:spPr>
          <a:xfrm>
            <a:off x="847800" y="561960"/>
            <a:ext cx="8777160" cy="608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Bio-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3382920" y="6765840"/>
            <a:ext cx="99864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exit red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043920" y="6272280"/>
            <a:ext cx="1398600" cy="47628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4d4d4d">
                <a:alpha val="50000"/>
              </a:srgbClr>
            </a:outerShdw>
          </a:effectLst>
        </p:spPr>
      </p:pic>
      <p:sp>
        <p:nvSpPr>
          <p:cNvPr id="118" name="Text Box 3"/>
          <p:cNvSpPr/>
          <p:nvPr/>
        </p:nvSpPr>
        <p:spPr>
          <a:xfrm>
            <a:off x="2619360" y="6964200"/>
            <a:ext cx="5257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200" spc="-1" strike="noStrike">
                <a:solidFill>
                  <a:srgbClr val="ffffef"/>
                </a:solidFill>
                <a:latin typeface="Arial Unicode MS"/>
              </a:rPr>
              <a:t>Click on a lesson name to sel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file:///tmp/home/.config/libreoffice/4/user/gallery/incomplete_dominanc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dominanc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multiple_alleles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pistasis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file:///tmp/home/.config/libreoffice/4/user/gallery/sex_chromosom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tmp/home/.config/libreoffice/4/user/gallery/sex_linked_trait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tmp/home/.config/libreoffice/4/user/gallery/polygenic_trait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aryotyp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elomere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ndisjunction.wav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pedigree.wa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Inferring Genotyp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nowing physical traits can determine what genes an individual is most likely to hav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85880" y="32148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redicting Disor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785880" y="3925800"/>
            <a:ext cx="85867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keeping helps scientists use pedigree analysis to study inheritance patterns, determine phenotypes, and ascertain geno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85880" y="2017800"/>
            <a:ext cx="89676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4" descr="ch 11 im 10"/>
          <p:cNvPicPr/>
          <p:nvPr/>
        </p:nvPicPr>
        <p:blipFill>
          <a:blip r:embed="rId1"/>
          <a:stretch/>
        </p:blipFill>
        <p:spPr>
          <a:xfrm>
            <a:off x="698400" y="3917880"/>
            <a:ext cx="9144000" cy="23875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06960" y="1447920"/>
            <a:ext cx="40968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Codom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785880" y="2122560"/>
            <a:ext cx="8815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oth alleles are expressed in the heterozygous cond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38080" y="3581280"/>
            <a:ext cx="8815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ckle-cell disease is one exam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ickle-cell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85880" y="2021040"/>
            <a:ext cx="538632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anges in hemoglobin cause red blood cells to change to a sickle sha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85880" y="3705120"/>
            <a:ext cx="53863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ople who are heterozygous for the trait have both normal and sickle-shaped c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1" descr="Ch11 Im12 normal and sickle"/>
          <p:cNvPicPr/>
          <p:nvPr/>
        </p:nvPicPr>
        <p:blipFill>
          <a:blip r:embed="rId1"/>
          <a:stretch/>
        </p:blipFill>
        <p:spPr>
          <a:xfrm>
            <a:off x="6696000" y="2108160"/>
            <a:ext cx="2957760" cy="40640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2"/>
          <p:cNvSpPr/>
          <p:nvPr/>
        </p:nvSpPr>
        <p:spPr>
          <a:xfrm>
            <a:off x="5429160" y="5467320"/>
            <a:ext cx="11430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ickl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620040" y="1812960"/>
            <a:ext cx="22190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 red blood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AutoShape 43"/>
          <p:cNvCxnSpPr/>
          <p:nvPr/>
        </p:nvCxnSpPr>
        <p:spPr>
          <a:xfrm>
            <a:off x="8714880" y="1990440"/>
            <a:ext cx="353160" cy="28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44"/>
          <p:cNvCxnSpPr/>
          <p:nvPr/>
        </p:nvCxnSpPr>
        <p:spPr>
          <a:xfrm>
            <a:off x="8714880" y="1990440"/>
            <a:ext cx="505800" cy="151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AutoShape 48"/>
          <p:cNvCxnSpPr/>
          <p:nvPr/>
        </p:nvCxnSpPr>
        <p:spPr>
          <a:xfrm flipV="1">
            <a:off x="6515280" y="4390560"/>
            <a:ext cx="1505520" cy="1239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" name="AutoShape 49"/>
          <p:cNvCxnSpPr/>
          <p:nvPr/>
        </p:nvCxnSpPr>
        <p:spPr>
          <a:xfrm flipV="1">
            <a:off x="6515280" y="3047760"/>
            <a:ext cx="1791360" cy="258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Text Box 50"/>
          <p:cNvSpPr/>
          <p:nvPr/>
        </p:nvSpPr>
        <p:spPr>
          <a:xfrm>
            <a:off x="8358120" y="6118200"/>
            <a:ext cx="13734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 algn="r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766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67240" y="1311120"/>
            <a:ext cx="4648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Multiple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5367240" y="2021040"/>
            <a:ext cx="45435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lood groups in hum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878440" y="3205080"/>
            <a:ext cx="38703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BO blood groups have three forms of alle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ch 11 im 16"/>
          <p:cNvPicPr/>
          <p:nvPr/>
        </p:nvPicPr>
        <p:blipFill>
          <a:blip r:embed="rId1"/>
          <a:stretch/>
        </p:blipFill>
        <p:spPr>
          <a:xfrm>
            <a:off x="866880" y="1128600"/>
            <a:ext cx="4133880" cy="542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296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at Color of 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85880" y="2021040"/>
            <a:ext cx="8815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alleles can demonstrate a hierarchy of domi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785880" y="3214800"/>
            <a:ext cx="828180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rabbits, four alleles code for coat color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i="1" lang="en-US" sz="3200" spc="-1" strike="noStrike" baseline="45000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i="1" lang="en-US" sz="3200" spc="-1" strike="noStrike" baseline="45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Epi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85880" y="1990800"/>
            <a:ext cx="88153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4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ex Det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85880" y="2021040"/>
            <a:ext cx="46227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ex chromoso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an individual’s gen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ch 11 im 16b"/>
          <p:cNvPicPr/>
          <p:nvPr/>
        </p:nvPicPr>
        <p:blipFill>
          <a:blip r:embed="rId1"/>
          <a:stretch/>
        </p:blipFill>
        <p:spPr>
          <a:xfrm>
            <a:off x="6149880" y="1314360"/>
            <a:ext cx="3222720" cy="4618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3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3124080"/>
            <a:ext cx="411120" cy="3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osage Compens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85880" y="1962000"/>
            <a:ext cx="91962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X chromosome carries a variety of genes that are necessary for the development of both females and males.</a:t>
            </a: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785880" y="3579840"/>
            <a:ext cx="92739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Y chromosome mainly has genes that relate to the development of male characteristic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762120" y="4724280"/>
            <a:ext cx="927396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 females, one X chromosome is inactivated in each cell.  The inactivated X chromosome is visible in stained cells as a Bar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Sex-Linked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85880" y="2016000"/>
            <a:ext cx="85104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785880" y="2735280"/>
            <a:ext cx="7900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785880" y="3433680"/>
            <a:ext cx="79009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0" descr="Vlab_100"/>
          <p:cNvPicPr/>
          <p:nvPr/>
        </p:nvPicPr>
        <p:blipFill>
          <a:blip r:embed="rId1"/>
          <a:stretch/>
        </p:blipFill>
        <p:spPr>
          <a:xfrm>
            <a:off x="3429000" y="5181480"/>
            <a:ext cx="4038480" cy="11527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7"/>
          <p:cNvSpPr/>
          <p:nvPr/>
        </p:nvSpPr>
        <p:spPr>
          <a:xfrm>
            <a:off x="5079960" y="5384880"/>
            <a:ext cx="2209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a6000d"/>
                </a:solidFill>
                <a:latin typeface="Arial"/>
              </a:rPr>
              <a:t>Sex-Linked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8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447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0"/>
          <p:cNvSpPr/>
          <p:nvPr/>
        </p:nvSpPr>
        <p:spPr>
          <a:xfrm>
            <a:off x="1170000" y="2612880"/>
            <a:ext cx="805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 algn="just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1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176480" y="3262320"/>
            <a:ext cx="73990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</a:t>
            </a:r>
            <a:r>
              <a:rPr b="0" lang="en-US" sz="2800" spc="-1" strike="noStrike">
                <a:solidFill>
                  <a:srgbClr val="007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2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1171440" y="3919680"/>
            <a:ext cx="80488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160" rIns="110160" tIns="55080" bIns="55080" anchor="t">
            <a:spAutoFit/>
          </a:bodyPr>
          <a:p>
            <a:pPr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1" lang="en-US" sz="2800" spc="-1" strike="noStrike">
                <a:solidFill>
                  <a:srgbClr val="007600"/>
                </a:solidFill>
                <a:latin typeface="Arial"/>
              </a:rPr>
              <a:t>Section 3:   </a:t>
            </a:r>
            <a:r>
              <a:rPr b="0" lang="en-US" sz="2800" spc="-1" strike="noStrike" u="sng">
                <a:solidFill>
                  <a:srgbClr val="007600"/>
                </a:solidFill>
                <a:uFillTx/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7"/>
          <p:cNvGrpSpPr/>
          <p:nvPr/>
        </p:nvGrpSpPr>
        <p:grpSpPr>
          <a:xfrm>
            <a:off x="519120" y="593640"/>
            <a:ext cx="9448920" cy="1085400"/>
            <a:chOff x="519120" y="593640"/>
            <a:chExt cx="9448920" cy="1085400"/>
          </a:xfrm>
        </p:grpSpPr>
        <p:sp>
          <p:nvSpPr>
            <p:cNvPr id="166" name="Text Box 25"/>
            <p:cNvSpPr/>
            <p:nvPr/>
          </p:nvSpPr>
          <p:spPr>
            <a:xfrm>
              <a:off x="519120" y="593640"/>
              <a:ext cx="9448920" cy="10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a6000d"/>
                  </a:solidFill>
                  <a:latin typeface="Arial"/>
                </a:rPr>
                <a:t>Complex Inheritance and Human Heredit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r>
                <a:rPr b="1" lang="en-US" sz="3200" spc="-1" strike="noStrike">
                  <a:solidFill>
                    <a:srgbClr val="a6000d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3933720" y="1092240"/>
              <a:ext cx="39006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160" rIns="110160" tIns="55080" bIns="55080" anchor="t">
              <a:spAutoFit/>
            </a:bodyPr>
            <a:p>
              <a:pPr>
                <a:tabLst>
                  <a:tab algn="l" pos="0"/>
                  <a:tab algn="l" pos="992160"/>
                  <a:tab algn="l" pos="1984320"/>
                  <a:tab algn="l" pos="2976480"/>
                  <a:tab algn="l" pos="3968640"/>
                  <a:tab algn="l" pos="4960800"/>
                  <a:tab algn="l" pos="5952960"/>
                  <a:tab algn="l" pos="6945480"/>
                  <a:tab algn="l" pos="7937640"/>
                  <a:tab algn="l" pos="8929800"/>
                  <a:tab algn="l" pos="9921960"/>
                  <a:tab algn="l" pos="1091412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Polygen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785880" y="201600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olygenic tra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ise from *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3" descr="ch 11 im 23"/>
          <p:cNvPicPr/>
          <p:nvPr/>
        </p:nvPicPr>
        <p:blipFill>
          <a:blip r:embed="rId1"/>
          <a:stretch/>
        </p:blipFill>
        <p:spPr>
          <a:xfrm>
            <a:off x="1674720" y="3305160"/>
            <a:ext cx="7164360" cy="3203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08640" y="2590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nvironmental Influ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85880" y="20160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vironmental factors influence an organism’s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762120" y="320040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et and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762120" y="388620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nlight a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762120" y="449568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win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785880" y="201600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ps scientists separate genetic contributions from environmental contrib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785880" y="32148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its that appear frequently in identical twins are at least partially controlled by here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785880" y="441972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aits expressed differently in identical twins are strongly influenced by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omplex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2"/>
          <p:cNvSpPr/>
          <p:nvPr/>
        </p:nvSpPr>
        <p:spPr>
          <a:xfrm>
            <a:off x="781200" y="2008080"/>
            <a:ext cx="86626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Karyo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Karyotyp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785880" y="3692520"/>
            <a:ext cx="8891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ages of chromosomes stained during meta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785880" y="4881600"/>
            <a:ext cx="8663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romosomes are arranged in decreasing size to produce a micrograp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5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0481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Telom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785880" y="202392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elomere caps consist of DNA associated with protei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785880" y="321948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590920"/>
            <a:ext cx="41112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Nondisj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785880" y="2009880"/>
            <a:ext cx="82058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ell division during which sister chromatids fail to separate proper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785880" y="3206880"/>
            <a:ext cx="82818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wn syndrome, also called trisomy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Chromosomes and Human Here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AUDIO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616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conceptsinmotion"/>
          <p:cNvPicPr/>
          <p:nvPr/>
        </p:nvPicPr>
        <p:blipFill>
          <a:blip r:embed="rId1"/>
          <a:stretch/>
        </p:blipFill>
        <p:spPr>
          <a:xfrm>
            <a:off x="7513560" y="522360"/>
            <a:ext cx="2425680" cy="380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1600200" y="32004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Table 11.2 Recessive Genetic Disorders in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ystic Fibr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5880" y="2021040"/>
            <a:ext cx="84344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ffects the mucus-producing glands, digestive enzymes, and sweat gl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85880" y="3208320"/>
            <a:ext cx="812808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hloride ions are not absorbed into the cells of a person with cystic fibrosis but are excreted in the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785880" y="4884840"/>
            <a:ext cx="8128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sufficient chloride ions in the cells, a thick mucus is secre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lbi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785880" y="202104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by altered genes, resulting in the absence of the skin pigment melanin in hair and ey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90560" y="3708360"/>
            <a:ext cx="819612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ite 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795240" y="4408560"/>
            <a:ext cx="8196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ry pale 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795240" y="5111640"/>
            <a:ext cx="81964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ink pup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Tay-Sachs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5880" y="202104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used by the absence of the enzymes responsible for breaking down fatty acids called gangliosi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785880" y="3697200"/>
            <a:ext cx="85104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angliosides accumulate in the brain, inflating brain nerve cells and causing mental deterio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alactosem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ecessive genetic disorder characterized by the inability of the body to digest galact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Dominant Genetic Disor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785880" y="2021040"/>
            <a:ext cx="8739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untington’s disease affects the nervous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785880" y="3205080"/>
            <a:ext cx="873900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hondroplasia is a genetic condition that causes small body size and limbs that are comparatively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1557000" y="1440"/>
            <a:ext cx="5250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Inheritance and Human Here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785880" y="1311120"/>
            <a:ext cx="866304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a6000d"/>
                </a:solidFill>
                <a:latin typeface="Arial"/>
                <a:ea typeface="Times New Roman"/>
              </a:rPr>
              <a:t>Pedi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85880" y="1949400"/>
            <a:ext cx="873900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 marL="254160" indent="-254160">
              <a:buClr>
                <a:srgbClr val="a6000d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ch 11 im 8"/>
          <p:cNvPicPr/>
          <p:nvPr/>
        </p:nvPicPr>
        <p:blipFill>
          <a:blip r:embed="rId1"/>
          <a:stretch/>
        </p:blipFill>
        <p:spPr>
          <a:xfrm>
            <a:off x="628560" y="3152880"/>
            <a:ext cx="9298080" cy="3409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0"/>
          <p:cNvSpPr/>
          <p:nvPr/>
        </p:nvSpPr>
        <p:spPr>
          <a:xfrm>
            <a:off x="682560" y="515880"/>
            <a:ext cx="89391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6000d"/>
                </a:solidFill>
                <a:latin typeface="Arial"/>
              </a:rPr>
              <a:t>Basic Patterns of Human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0" y="15840"/>
            <a:ext cx="1523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760" bIns="50760" anchor="t">
            <a:spAutoFit/>
          </a:bodyPr>
          <a:p>
            <a:pPr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a6000d"/>
                </a:solidFill>
                <a:latin typeface="Arial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AUDIO cop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1447920"/>
            <a:ext cx="412560" cy="35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1:33:37Z</dcterms:created>
  <dc:creator>Glencoe/McGraw-Hill</dc:creator>
  <dc:description/>
  <dc:language>en-US</dc:language>
  <cp:lastModifiedBy>trocksund</cp:lastModifiedBy>
  <dcterms:modified xsi:type="dcterms:W3CDTF">2014-04-10T19:37:18Z</dcterms:modified>
  <cp:revision>613</cp:revision>
  <dc:subject/>
  <dc:title>Glencoe Biology</dc:title>
</cp:coreProperties>
</file>